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252EE-284F-44AB-8F2A-A298AB426B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069F9-29AE-4D58-8CB4-F5B029A68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2A209-CE27-40B1-B3D5-6E03667E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59372-213A-42E2-AA45-EE23020B96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2C616-B381-4219-A126-81EEAFE1A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46C2D-F6E3-4B6B-B242-6EB982ABE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821F4-EA8C-4951-B54D-BF8A7B9D8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97A97-4625-46EA-9FFA-85563FA49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B4192-4B13-4310-94BC-452728808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8CDC6-1D31-469B-A81C-F9708F47B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E1282-0CA3-40BD-ABBF-CCA884EB3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87A55-7F9E-41A9-AF80-67E8E6380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1630B-FA6D-4AFA-9932-B90B14BB482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421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章  康复治疗技术</a:t>
            </a: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言语治疗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6300720" y="558972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王海丽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  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各种手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有言语障碍的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进行针对性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言语治疗的原则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评定设定训练项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制订科学的训练程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及时强化与反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言语康复的影响因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者对言语障碍的认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好的医患关系直接影响言语的康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心理状况和认知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治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18600" y="1413000"/>
            <a:ext cx="861084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失语症的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传统方法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接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听理解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语表达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阅读理解及朗读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书写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治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28360" y="1371600"/>
            <a:ext cx="808668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失语症的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实用法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间接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功能性交流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泛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治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115640" y="1371240"/>
            <a:ext cx="7799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构音障碍的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舌唇运动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发音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呼吸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言语速度和辨音的训练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治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628280"/>
            <a:ext cx="861048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吞咽障碍的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接治疗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把食物引入口，加强吞咽行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取食物的顺序一般是软食、半固体、固体、液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间接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特殊吞咽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药蓉</cp:lastModifiedBy>
  <cp:lastPrinted>1899-12-30T00:00:00Z</cp:lastPrinted>
  <dcterms:modified xsi:type="dcterms:W3CDTF">2015-04-27T07:24:31Z</dcterms:modified>
  <cp:revision>2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</Properties>
</file>